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1620-0CA5-49B0-937F-B8C1E256F1A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55E0-B798-4F3A-9D3F-E3565BCBCED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B066-0F1B-4EE9-B9F8-7D16C7C1F82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940E-5084-44FD-A127-D43BDFD1578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0004-D0C7-446A-8B78-D28672EEE7B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9C28-B1BD-4B04-AC80-4C212E8F9E0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193F-F090-4C4E-9A30-E8551F2DBF9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7143-4783-4B57-9DB1-53C714B7AE8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CB98-DE7E-4915-8562-4CF2DA4D58C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F14E-D340-46AE-9DD0-8A6211D9DDC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2214-62E6-41E9-8ECA-D7D18609109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2F56-9ED9-49D9-9FD0-17BD7FDFED1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6431-433A-45C4-B78B-712289580BE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88E7-D7E8-49CA-868D-08234C69E25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E9D2-8898-41E9-9623-336D5D1806F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8DB6-3D97-4419-984A-83409CFB170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08F6-51E4-4E68-99B7-DCCE7919B7D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D57F-D1A3-440F-BDA3-82C96B50524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4B45-D547-41AD-B8C0-C86C58C5014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3382-810F-438A-8AC9-FE09556F183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9634-4612-4438-B57F-1CC07F4B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312-7026-43F8-BFFE-416CE1EA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60D-1504-45F2-A3B9-92650CA4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87F-2203-46C4-A5E9-FD6E7520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F62C-2FE1-4C3C-89EE-F98742C3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F439-0E27-4FC9-B6F9-A9B36BE6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A948-DC77-4D66-BEE8-BF0839C6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815F-F9A8-43DD-BC70-B565C4BB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2EA5-56EC-4C24-8CC6-7762A482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AB31-164D-49B5-AA64-2E05117C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FC50-ED8F-4EE7-8D45-65D1117E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D642-C21B-46E4-AF2E-59D44D47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ED93-1AF4-4ED4-8431-DCD25E44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864D-99C0-4C34-BC3E-FBE5E165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55E9-2644-42F9-A08F-563C0FCD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F20E-D071-42CC-8242-E436C2D3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EE12-756F-4F7F-A836-BC925FCC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B6A42-4E1C-4847-84BE-16630AFF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F726F-D3BE-4A82-835D-E4FC85A3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2AAAA-9D85-4DA4-9FD1-9054BB6F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EFD12-213E-4391-ACE8-8C9C7CFE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3021B-AB7B-4C36-9B9A-AA1AAFEE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4BA-96D4-42E0-BB2E-D2B69A6C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FF895-A4E3-4701-96FC-DB6847EC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8D2EC-DF3F-4764-846D-0EB00ABF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CF9BD-50C2-4327-B3E4-A32A78C6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D4C6C-5702-45D3-8066-E1F50A68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69DBA-C40A-4DCC-9E2D-5BEECEB4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08FFB-2EDC-4456-B1B5-6EB0F4E3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DFEF9-3C06-4555-9BBA-321295BB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68096-8A1F-4B09-9CF3-B14FE6C3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DF785-D51D-417C-846A-F78D59D8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F899F-CFD4-4648-8609-6FD36E1F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5AA4-D101-44DE-9A95-BDF7DB62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9C21E-59CA-4D7F-A99C-FF2F385C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409F7-B962-4D51-85E2-23064721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12FD9-3DC3-4614-BC6C-E23BEBD7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CBF80-3084-4B0B-8A48-98AEA767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754CB-46A1-4C5F-A9D0-9852FEC3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E2DDD-6F64-46B8-AEC2-9531C93E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45BB4-CB7D-458C-A873-EB451297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D9A6A-E928-4C1A-ACA9-2B9C55DA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E3647-D6A8-4BFC-ACCD-58894497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784B1-C90B-449B-A183-542960D9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3EB-A51F-460B-BCDE-28602F86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9FB52-BA79-463B-99A3-E3D77F04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A6F40-F5D2-472D-9856-0861512B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361A8-3968-41F3-B714-8BB7AAF7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CF5FA-6633-4E14-8ED7-E891E448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F6100-6E55-4444-9C87-A01BDC68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2FFD0-B41D-476F-8377-6D3E539D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08760-CE2A-473E-9474-BC38B7B5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30C57-1CDF-416C-865C-9B93F274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2F475-E28D-41D0-96A5-D554037C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14F27-3F16-4FF5-80F9-F879A6DB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ADD-FB7B-46D3-8FDE-453A911E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5F9E3-1598-41B7-874B-ED5DB4CD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AC149-B7F1-4AA1-8644-8106BA5B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65C9E-A597-4276-B4C0-6D127D62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3AA8D-8503-432B-925B-0F61B4CC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91232-2263-4FE9-B4CC-31D4197C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861B4-1712-445C-8D02-14CD7089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81B6F-CD28-46E0-9472-BE771124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61E61-8870-42A0-8637-D7B52435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FE139-8C9E-42CD-A362-48F90647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09B10-C2B0-428F-BEE6-48E3A1E6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0A78-B0D5-43DC-A9F6-DE64FE13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4E809-3A26-4B93-80ED-6271AC44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FFFA8-3287-4EDA-99D9-11081982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B7F96-9AC2-4D3F-BDFC-D4D8EC8B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EC8BF-B635-4736-AA96-B8BD1878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E2537-F247-4905-8E82-95D8C55C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B5FDE-A48C-4703-AF2E-CC0A811D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302BE-BB5A-4252-9D2E-FE76DC7C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3DE97-1658-43D9-BB72-0F2BD671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5552C-8AC9-45F7-8904-62875C04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9C862-4F5C-42A4-BC88-55D365B6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2CF-2379-44E4-97CB-20FB3BCC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C8528-4EAF-405C-ABA5-7FA94484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FA626-C21E-4F87-BEB0-9876E029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AFF69-0CE8-42CE-BE64-A507C00B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37B9D-F8AD-4DDD-86AA-B88C7476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57801-8926-4A3A-B494-F6014810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9D741-C32B-40A8-9FCC-5DFEE317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FB046-31AE-4990-9731-02F91DF4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A2E0F-3014-4375-A14A-A04115EA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108F6-F1F6-4799-AB66-ABF650D8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A204C-048C-434C-B3E6-754D9C29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FA5-D574-4B09-A50D-B137EC6D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9BF37-40B1-41CC-BA82-346A3DE3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2470C-CAE6-4A35-B5D1-D9E86EEA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929DA-EEDD-47FB-BBE7-94796A96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5D78C-E589-4CE7-A61A-84695EC4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70DF1-9D12-4112-89DD-91626C2A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D9E01-FA76-4ADA-9B3F-491BF9C5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D0C3C-DFE8-4091-8141-0C6EA78F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33D0-921A-4A4C-80F5-0DC078EB6EA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5314-1AB3-4110-9177-E2209D3E526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2FFF-7596-4D8D-A32C-0573484EB3B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D130-976F-4520-BC9F-064912FEF13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1181-4A75-4065-8CF6-93029AD5E54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42A6-E66E-4B66-9692-B0D16D9EA0D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47E5-48FD-4A95-974B-A30D0E45E9E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995D-D7FB-4EA0-843C-5D8CBE186B3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Finansijsko planiran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 I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2666880" y="3733920"/>
                <a:ext cx="3238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N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533520" y="1600200"/>
                <a:ext cx="262260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T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6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3657600" y="1371600"/>
                <a:ext cx="5002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5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5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3657600" y="3886200"/>
                <a:ext cx="5141880" cy="18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6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6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12078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7"/>
          <p:cNvSpPr/>
          <p:nvPr/>
        </p:nvSpPr>
        <p:spPr>
          <a:xfrm>
            <a:off x="304920" y="1295280"/>
            <a:ext cx="84582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zračunati DTR I i II u količinskom i novčanom obliku ako su poznati sljedeć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.000/(200-100) =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50.000 + 10.000)/(200-100) = 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0*200 = 100.000              DTR2 = 600*200 = 12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2414520" cy="6858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1828800" cy="7556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457200" y="1295280"/>
            <a:ext cx="8001000" cy="86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Izračunati DTR I i II u količinskom i novčanom obliku ako su poznati sljedec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  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0.000/(30-20) = 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10.000 + 5.000)/(30-20) = 1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.000*30 = 30.000              DTR2 = 1.500*30 = 4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1600200" cy="754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2209680" cy="69516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152280" y="1219320"/>
            <a:ext cx="853452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Izračunati DTR I i II u količinskom i novčanom obliku ako su poznati sljedeći poda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po jedinici je 2 puta veća od varijabilnih troškova po jedi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iznose 75% fiksnih troš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= prodajna cijena - varijabilni troškovi po jedin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2X -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x   -  varijabilni troškovi po jedinici proiz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rijabilni troškovi po jedinici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              1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3"/>
          <p:cNvSpPr/>
          <p:nvPr/>
        </p:nvSpPr>
        <p:spPr>
          <a:xfrm>
            <a:off x="228600" y="1600200"/>
            <a:ext cx="853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stav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ičins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 2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ovč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40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70.0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133720" y="1752480"/>
          <a:ext cx="5149800" cy="4600800"/>
        </p:xfrm>
        <a:graphic>
          <a:graphicData uri="http://schemas.openxmlformats.org/drawingml/2006/table">
            <a:tbl>
              <a:tblPr/>
              <a:tblGrid>
                <a:gridCol w="706320"/>
                <a:gridCol w="2727360"/>
                <a:gridCol w="1716120"/>
              </a:tblGrid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779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77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609480" y="1295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spuniti planski bilans uspje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3"/>
          <p:cNvSpPr/>
          <p:nvPr/>
        </p:nvSpPr>
        <p:spPr>
          <a:xfrm>
            <a:off x="609480" y="1219320"/>
            <a:ext cx="5943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828800" y="1371600"/>
          <a:ext cx="5454720" cy="5030640"/>
        </p:xfrm>
        <a:graphic>
          <a:graphicData uri="http://schemas.openxmlformats.org/drawingml/2006/table">
            <a:tbl>
              <a:tblPr/>
              <a:tblGrid>
                <a:gridCol w="747720"/>
                <a:gridCol w="2889360"/>
                <a:gridCol w="1817640"/>
              </a:tblGrid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871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871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"/>
          <p:cNvSpPr/>
          <p:nvPr/>
        </p:nvSpPr>
        <p:spPr>
          <a:xfrm>
            <a:off x="533520" y="137160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našem primjeru potrebno je ostvariti 250.000 € prihoda od prodaje radi postizanja neutralnog poslovnog rezultata ili 62.5 % planiranih prihoda. Za ostvarivanje nultog bruto finansijskog rezultata potrebno je 270.000 € prihoda od prodaje ili 67.5 % planiranih prih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"/>
          <p:cNvGrpSpPr/>
          <p:nvPr/>
        </p:nvGrpSpPr>
        <p:grpSpPr>
          <a:xfrm>
            <a:off x="990720" y="2819520"/>
            <a:ext cx="6629040" cy="3211560"/>
            <a:chOff x="990720" y="2819520"/>
            <a:chExt cx="6629040" cy="3211560"/>
          </a:xfrm>
        </p:grpSpPr>
        <p:sp>
          <p:nvSpPr>
            <p:cNvPr id="455" name="Line 2"/>
            <p:cNvSpPr/>
            <p:nvPr/>
          </p:nvSpPr>
          <p:spPr>
            <a:xfrm>
              <a:off x="4305600" y="4256640"/>
              <a:ext cx="0" cy="1437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"/>
            <p:cNvSpPr/>
            <p:nvPr/>
          </p:nvSpPr>
          <p:spPr>
            <a:xfrm>
              <a:off x="5041800" y="3657600"/>
              <a:ext cx="0" cy="203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"/>
            <p:cNvGrpSpPr/>
            <p:nvPr/>
          </p:nvGrpSpPr>
          <p:grpSpPr>
            <a:xfrm>
              <a:off x="990720" y="2819520"/>
              <a:ext cx="6629040" cy="3211560"/>
              <a:chOff x="990720" y="2819520"/>
              <a:chExt cx="6629040" cy="3211560"/>
            </a:xfrm>
          </p:grpSpPr>
          <p:sp>
            <p:nvSpPr>
              <p:cNvPr id="458" name="Line 5"/>
              <p:cNvSpPr/>
              <p:nvPr/>
            </p:nvSpPr>
            <p:spPr>
              <a:xfrm flipV="1">
                <a:off x="2586600" y="2819520"/>
                <a:ext cx="0" cy="287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6"/>
              <p:cNvSpPr/>
              <p:nvPr/>
            </p:nvSpPr>
            <p:spPr>
              <a:xfrm>
                <a:off x="2586600" y="5693760"/>
                <a:ext cx="29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7"/>
              <p:cNvSpPr/>
              <p:nvPr/>
            </p:nvSpPr>
            <p:spPr>
              <a:xfrm flipV="1">
                <a:off x="2585880" y="3298680"/>
                <a:ext cx="2946240" cy="2395800"/>
              </a:xfrm>
              <a:prstGeom prst="line">
                <a:avLst/>
              </a:prstGeom>
              <a:ln w="55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8"/>
              <p:cNvSpPr/>
              <p:nvPr/>
            </p:nvSpPr>
            <p:spPr>
              <a:xfrm>
                <a:off x="2585880" y="5094360"/>
                <a:ext cx="2946240" cy="0"/>
              </a:xfrm>
              <a:prstGeom prst="line">
                <a:avLst/>
              </a:prstGeom>
              <a:ln w="55080">
                <a:solidFill>
                  <a:srgbClr val="3963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9"/>
              <p:cNvSpPr/>
              <p:nvPr/>
            </p:nvSpPr>
            <p:spPr>
              <a:xfrm>
                <a:off x="2585880" y="4854600"/>
                <a:ext cx="2946240" cy="0"/>
              </a:xfrm>
              <a:prstGeom prst="line">
                <a:avLst/>
              </a:prstGeom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0"/>
              <p:cNvSpPr/>
              <p:nvPr/>
            </p:nvSpPr>
            <p:spPr>
              <a:xfrm flipV="1">
                <a:off x="2586600" y="34182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1"/>
              <p:cNvSpPr/>
              <p:nvPr/>
            </p:nvSpPr>
            <p:spPr>
              <a:xfrm flipV="1">
                <a:off x="2586600" y="36576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12"/>
              <p:cNvSpPr/>
              <p:nvPr/>
            </p:nvSpPr>
            <p:spPr>
              <a:xfrm>
                <a:off x="5533200" y="2939040"/>
                <a:ext cx="135036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Prihod od prodaj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13"/>
              <p:cNvSpPr/>
              <p:nvPr/>
            </p:nvSpPr>
            <p:spPr>
              <a:xfrm>
                <a:off x="5656320" y="4496040"/>
                <a:ext cx="1963440" cy="358560"/>
              </a:xfrm>
              <a:prstGeom prst="rect">
                <a:avLst/>
              </a:prstGeom>
              <a:solidFill>
                <a:srgbClr val="ec76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Times New Roman"/>
                  </a:rPr>
                  <a:t>Neto rashodi finansirana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14"/>
              <p:cNvSpPr/>
              <p:nvPr/>
            </p:nvSpPr>
            <p:spPr>
              <a:xfrm>
                <a:off x="5778720" y="5094360"/>
                <a:ext cx="1719360" cy="360360"/>
              </a:xfrm>
              <a:prstGeom prst="rect">
                <a:avLst/>
              </a:prstGeom>
              <a:solidFill>
                <a:srgbClr val="78d6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Fiksni troškov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5"/>
              <p:cNvSpPr/>
              <p:nvPr/>
            </p:nvSpPr>
            <p:spPr>
              <a:xfrm>
                <a:off x="3429000" y="5791680"/>
                <a:ext cx="122760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</a:rPr>
                  <a:t>250 000 €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6"/>
              <p:cNvSpPr/>
              <p:nvPr/>
            </p:nvSpPr>
            <p:spPr>
              <a:xfrm>
                <a:off x="4800600" y="5791680"/>
                <a:ext cx="98208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275 000 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17"/>
              <p:cNvSpPr/>
              <p:nvPr/>
            </p:nvSpPr>
            <p:spPr>
              <a:xfrm>
                <a:off x="990720" y="3897360"/>
                <a:ext cx="147312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Rashodi i priho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Down Arrow 20"/>
          <p:cNvSpPr/>
          <p:nvPr/>
        </p:nvSpPr>
        <p:spPr>
          <a:xfrm>
            <a:off x="4267080" y="3505320"/>
            <a:ext cx="76320" cy="7617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own Arrow 21"/>
          <p:cNvSpPr/>
          <p:nvPr/>
        </p:nvSpPr>
        <p:spPr>
          <a:xfrm>
            <a:off x="4952880" y="3048120"/>
            <a:ext cx="76320" cy="60948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2"/>
          <p:cNvSpPr/>
          <p:nvPr/>
        </p:nvSpPr>
        <p:spPr>
          <a:xfrm>
            <a:off x="3886200" y="3200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F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3"/>
          <p:cNvSpPr/>
          <p:nvPr/>
        </p:nvSpPr>
        <p:spPr>
          <a:xfrm>
            <a:off x="457200" y="152388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irana neto prodajna cijena iznosi 200 € po jednom komad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a varijabilni troškovi po jedno komadu iznose 120 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1 = 100.000/(200-120) = 1.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2 = 110.000 /(200-120) = 1.3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zički obim proizvodnje pri kom se postiže prag rentabilnosti (u našem primjeru) iznosi 1.250 komada. dok se neutralan bruto finansijski rezultat ostvaruje sa proizvedenih 1.375 ko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Finansijsko planiranje – kvantifikovanje finansijske politi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Kvantifikovanje finansijske snage preduzeća (cilj finansijske politik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ag rentabilnosti – 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slovni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u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Untitled-1.jpg"/>
          <p:cNvPicPr/>
          <p:nvPr/>
        </p:nvPicPr>
        <p:blipFill>
          <a:blip r:embed="rId1"/>
          <a:stretch/>
        </p:blipFill>
        <p:spPr>
          <a:xfrm>
            <a:off x="-42840" y="-42840"/>
            <a:ext cx="94312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z rashod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poslovn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 rashodim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bruto finansijsk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4038480" y="1219320"/>
                <a:ext cx="409572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kupni  prihodi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Ukupni  rashod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F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v*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- v*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 - 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* q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- kolicina  proizvo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029200" cy="457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8763120" cy="457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1600200" y="4038480"/>
            <a:ext cx="6470640" cy="9144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2895480" y="3124080"/>
                <a:ext cx="2590920" cy="20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8"/>
          <p:cNvSpPr/>
          <p:nvPr/>
        </p:nvSpPr>
        <p:spPr>
          <a:xfrm>
            <a:off x="914400" y="350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4267080" y="1676520"/>
                <a:ext cx="404676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rPr>
                            <m:lit/>
                            <m:nor/>
                          </m:rPr>
                          <m:t xml:space="preserve">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NR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- neto  rashodi  finansiranj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- varijabilni  troskovi  po  jedinic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564400" cy="38124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3"/>
          <a:stretch/>
        </p:blipFill>
        <p:spPr>
          <a:xfrm>
            <a:off x="388800" y="2362320"/>
            <a:ext cx="8755200" cy="4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29:08Z</dcterms:created>
  <dc:creator>Miki</dc:creator>
  <dc:description/>
  <dc:language>en-US</dc:language>
  <cp:lastModifiedBy>boris</cp:lastModifiedBy>
  <dcterms:modified xsi:type="dcterms:W3CDTF">2012-11-15T14:10:55Z</dcterms:modified>
  <cp:revision>16</cp:revision>
  <dc:subject/>
  <dc:title>Finansijski menadzment</dc:title>
</cp:coreProperties>
</file>